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7E3-FC4A-4F51-A1CC-AE0348CF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6C5-77D5-4089-A2F5-12BE0B98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F29-1B19-4CF8-8401-A6D02813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7CA-A5AB-4C4A-BCD2-8937B66A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4D9C-0BA9-4BFB-A7D9-B345C686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ECE0-15E0-42E8-82A9-B5DE5FAA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4AD3-3B05-403E-87B7-F78B09BD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AA05-B29D-42B1-BD93-7679C347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2F9D-7A54-476C-BB44-47DB0A80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87E5-1BA8-4BF6-BB33-6863ED44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7A0E-52CB-42A8-971B-7D5F83C6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BAB-46E8-460E-A08F-7090F9BC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3C4B-C39E-4659-B133-9954B61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E8C9-DCB2-482B-ADBC-A87440C1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50CA-4944-4B7D-A48E-65A8203F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1298-44A6-412D-A8BA-358F5F00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2689-2363-4650-BFF0-0C446C7D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C70-2DC9-4B9D-9EEF-F2EEDBD8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EBA-B415-45A3-8C0B-4E8E63CB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E5A-FA9C-4F9F-B6C5-0CD6ED7D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DC8-3CE1-4618-9399-33E577B5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1F4-7692-454D-ABA2-023D61ED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004-05D6-4720-90C7-3D77F01A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477-B37A-4AD7-BBD0-C7973B35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EDB-624E-45E1-B6AE-E42CC9592D7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D1E5-8D40-4C12-9B5C-4080DFC3DCF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990720"/>
            <a:ext cx="6870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eat Britain and the UK.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a geographical unit and what is a political one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536160" y="533340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50560" y="3733200"/>
            <a:ext cx="747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Great Britain – geographica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the UK – political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07:3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